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dt" idx="40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ftr" idx="41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 type="sldNum" idx="42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567720"/>
                <a:tab algn="l" pos="10023480"/>
                <a:tab algn="l" pos="10479240"/>
                <a:tab algn="l" pos="109346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567720"/>
                <a:tab algn="l" pos="10023480"/>
                <a:tab algn="l" pos="10479240"/>
                <a:tab algn="l" pos="10934640"/>
              </a:tabLst>
            </a:pPr>
            <a:fld id="{8E4EE311-E07B-4A4F-9A1D-FAA8B01E85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567720"/>
                <a:tab algn="l" pos="10023480"/>
                <a:tab algn="l" pos="10479240"/>
                <a:tab algn="l" pos="10934640"/>
              </a:tabLst>
            </a:pPr>
            <a:fld id="{CD929B08-EA1D-445D-9EAA-D09108F1DF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567720"/>
                <a:tab algn="l" pos="10023480"/>
                <a:tab algn="l" pos="10479240"/>
                <a:tab algn="l" pos="10934640"/>
              </a:tabLst>
            </a:pPr>
            <a:fld id="{8C65BC7B-5022-44CD-B5E2-527F1CA00E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567720"/>
                <a:tab algn="l" pos="10023480"/>
                <a:tab algn="l" pos="10479240"/>
                <a:tab algn="l" pos="10934640"/>
              </a:tabLst>
            </a:pPr>
            <a:fld id="{56D685B4-4DD8-41E2-9125-06A225D98A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567720"/>
                <a:tab algn="l" pos="10023480"/>
                <a:tab algn="l" pos="10479240"/>
                <a:tab algn="l" pos="10934640"/>
              </a:tabLst>
            </a:pPr>
            <a:fld id="{FE644D8A-B488-48BB-8D2B-6E4508651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567720"/>
                <a:tab algn="l" pos="10023480"/>
                <a:tab algn="l" pos="10479240"/>
                <a:tab algn="l" pos="10934640"/>
              </a:tabLst>
            </a:pPr>
            <a:fld id="{CEC59881-AD43-4756-83B8-720C1CF772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6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567720"/>
                <a:tab algn="l" pos="10023480"/>
                <a:tab algn="l" pos="10479240"/>
                <a:tab algn="l" pos="10934640"/>
              </a:tabLst>
            </a:pPr>
            <a:fld id="{A8A21031-254F-4BE6-AFF4-22EE414FAD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567720"/>
                <a:tab algn="l" pos="10023480"/>
                <a:tab algn="l" pos="10479240"/>
                <a:tab algn="l" pos="10934640"/>
              </a:tabLst>
            </a:pPr>
            <a:fld id="{529F33C8-1706-4B90-9795-6430A3799F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567720"/>
                <a:tab algn="l" pos="10023480"/>
                <a:tab algn="l" pos="10479240"/>
                <a:tab algn="l" pos="10934640"/>
              </a:tabLst>
            </a:pPr>
            <a:fld id="{ED83DDC7-DA29-4C9B-B963-5A975C7828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567720"/>
                <a:tab algn="l" pos="10023480"/>
                <a:tab algn="l" pos="10479240"/>
                <a:tab algn="l" pos="10934640"/>
              </a:tabLst>
            </a:pPr>
            <a:fld id="{384B9EEA-671B-4D9E-BF1F-F869A98A2A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06CF-7516-4923-9687-7EE2264E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59E-D268-4F2E-B6A1-62DF5705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41643E-065C-43F8-A125-852DBAD8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960DBE-80FE-47FF-A381-7F5A962E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EEFB27-6CDD-4F2F-9300-B364D0D6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943DC5-899C-4500-84A1-4945FA88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2F000A-B89D-46A0-A698-89E1C995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06DD6-1B1B-4140-93E8-0B53D401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D67864-882E-4490-B94A-79CA12CB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8D5342-57C8-4094-8B1A-3EF2F48B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98ECD-959F-4347-A329-142F6F15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BB837C-148C-4F1B-8C4F-1842A69B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22E-34C7-428D-96AC-A1BD120C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777245-8FBF-4EF5-82A9-51E2E810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0763F6-18F0-44A3-A370-7B8D0C0B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524C0D-A4F4-4CC8-A211-563E7192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27774-1A8E-4DA9-A4E5-E9A2B0DE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14DC20-27C9-40AC-8F59-61365C34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629AD5-2733-4DF9-B4C4-FF44E6B5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4B3CD-848E-429F-B123-1517B2FF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91B6E-3134-486F-9654-0065D542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FAAD1-F0BD-443D-BB5B-79A56863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5BD679-B7A1-413E-9D70-E6572373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745-19FD-41AF-937A-7B9778B0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961025-46B5-4AF8-B880-659E04E1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97A92-A513-4333-B3FB-AFB8CEFF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5ECBF-2F1F-4172-99FC-69FCD8BE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E07B9-B614-4037-90C8-E2BC6AD0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7FD8F-9E38-4559-90B2-28F9B017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D697B-8837-406E-8234-F1FC1E7D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9A62A-D368-4A60-B376-41589A2D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D995D-BEA4-42B6-BBD1-796CA62A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B6F20-AE68-4E5C-A0A9-C2CD24DA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18EDA-6E28-4BB4-9F81-8E024F66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5D3A-0E3A-425B-9DB8-BCBACD77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005F7-5D92-45FB-856A-43F09B8E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9033C-0A7B-4254-A9BC-E210C6E0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53A16-B6D6-44EC-81D8-5085E8B6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DAD052-8806-4827-9527-378F7FA0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09EDF0-A965-419D-9A19-E379A8B9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98B993-3B05-44FA-950D-56E1B310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4AF6CB-692C-4C30-BDC4-7119FCD2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B53300-9737-4093-A8C9-3775D0B8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832109-0243-4237-A712-AD6887A0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D52F2C-9189-468D-8CF2-35838B6D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9BA3-92EB-494E-A4C6-253DA426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AA2114-925C-4997-8FF3-1089B0E1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8E4A41-2ACC-4CB2-9A3C-883B7492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CC9804-F05C-426C-9F00-0E344E46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D96890-4A95-4879-AACB-27D7BBF9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B5402E-2EC6-4748-92C4-B479E883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1863B4-9444-4FDD-BABE-5629B5AD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EDE88-4388-4A3D-8688-76125BDB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EB8D73-24CD-4469-9BC3-66265646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F51BB0-3FC0-4C5B-8AB9-58C8158E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AAD968-DAC0-47A5-A319-484FC3BB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ECE8-2A7B-4956-8DE2-D8E615B3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F1A04C-C1C6-43D5-9AE6-B191C451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229BF8-A202-4169-B607-B53DF80A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8DC30-5CF1-4148-B3F9-9CB5DF5A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B616FB-8DF3-4857-AAEC-3807FDF9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57E0B-EE4A-4CAC-9CF5-A506F77B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E90984-187F-43FC-9884-70B73532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3BC3FD-1533-474B-8A73-B15F3F5C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78A2-50F3-4C48-9072-8966DCC8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E9E0-D19B-4A1E-9C7B-B69E1E14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F6DE-4A68-4AE0-B78E-48F2F91B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5C10-A493-4CB4-ADE3-7ECD2DDB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0969-FFA6-4A43-B3E4-B053DCC7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F8DB-626C-4A8B-B50B-130C117A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843E-E8B3-4F7B-B7EA-CA3607A5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D5D8-8349-4338-9E76-438F04F4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6E60-E76A-4A07-82A3-09C8A4CE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412D-E2F4-4ECD-B87D-774FBC3C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65CF8-AE17-4E31-9B81-4248AA0E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22C73-8BB5-4122-86D8-42B90D13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02F45-E747-4C25-BF6E-47B21DD1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1C471-64B6-4349-B674-70D6FAC8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B0B24-4D6A-491C-99C2-C98A8829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1745-0744-4CC4-8397-E3AA4F5B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71CAC-E9ED-4F3B-B532-B78831A3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30FAC-8EDE-49B9-AE57-23F1968D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7E8D7-AE2A-4EE7-A229-85C81CE3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F59EF-1B2B-4954-AF1F-9802D644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A6BAE-A56A-4750-8A58-04F4657D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7EC3B-DA1A-4F63-9EDE-355B893A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29994-DAFA-4F80-B9FD-7444EA23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1F618-90B8-4037-8A45-DCCD303F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EDB5E-9705-43C9-8B3B-1900FC7A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A9E85-954C-415D-B733-2179527E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4E9B-CFC4-49C3-B90D-D6450134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137FE-E0FD-40B2-AA09-BC051936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B83CB-1FC3-4C96-9017-A16D4B5D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D1E95-F3F9-4414-8FBB-DF03E4C3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6BC0F-B19B-4B97-BAAC-D9796017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3608B-60AC-4E63-99DD-2C83497D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BB51E-78D9-441C-96FC-A7B2CF03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2433E-2F2C-4B02-97A8-88A622EF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DC2B4-2060-45ED-90F8-6C7BDF19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52202-FF8F-4F16-94F0-5E735E6E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61F2A-1634-4021-A685-A624178F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D7B0-7655-4F17-871F-9806E964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87F45-C665-4B16-BCD6-8B6D5340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51617-873F-4D5B-B249-F04198B0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447DB-317B-465D-8A1A-1AE9C327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7180B-8DE8-4F2D-AF75-9908FFE6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FEC65-B652-4994-AEC8-7514CCA9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47585-E899-4DFD-8E03-9EC684F2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6CD03-BD1B-4A5E-9AFB-8E2FB3F1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6A34A-C508-4B13-BD42-A5A44987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3B8C1-92AB-4329-A7AC-A871A07D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38516-E466-4A4E-994F-7872DCDE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440-F12F-44A3-A6C2-1BF34281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9D1E3-12F9-45F7-AF09-BD5DF9F6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C5313-A687-4EE7-9DEC-711C626F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71141-A934-4CE2-81B1-05CDFC6F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3AE1A-4BE9-4F97-BD67-2F523CA5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7AD94-4800-44C1-91C3-7DF76FE5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CE16E-FC2E-4181-8222-C344296C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B930E-F7CF-4D01-BD68-771D0675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25D81-81BA-4142-84B5-92EB4290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48970-C231-4021-A1B9-92D6A392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6A232-DA06-4B61-98E2-AEDEBCBB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8EBC-0DBB-4B74-A72F-90D226EE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4FE24-5D11-4964-8968-52DDFDD2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B763E-EA91-4DC4-B37C-9E1BF4C2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9D4FB-437B-497A-8E60-8DCA11C6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297FE-6436-4F0B-B85F-B65CDC1E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930F2-25FB-4B9D-B957-CF279F3F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76141-D3D0-475B-88CE-F552B7ED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6DDA8-B43F-4611-B777-49FC3531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4DE99-9C91-44A9-9869-411FC319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E39F1-623E-442F-BB46-E87C754E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C6E07-1BAD-4D4D-A7F1-87459365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AA0-8ACC-49F0-8E0A-646E591B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35097-AD41-46B2-9567-7BD10A88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D1A36-6904-4AEB-ADD6-73725160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2AF84-A33F-4E0B-BD34-ED676D68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BB8A7-B6DC-42CC-8CB5-EBECDFED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16A5C-91B7-4F98-BD5F-B1AE6A87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AF19F-FE6D-4F57-BC3F-07FA9691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F6106-CCCC-4B21-BAD6-1DBE4DEB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2D9B7-12A3-4A96-B248-B3F44646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46904-A75D-49BE-95CA-7E319739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B7C89-F8B9-4A6B-87DE-0C0D9429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886A-C9DD-427B-9530-94DACDA3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46704-55CF-49A2-A536-815EF6DC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C381E-6460-42D5-9C98-7A0486B1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16077-02DE-4033-8671-1E61DE77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A4F32-D024-4000-9440-6EA871DE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42F47-3461-462E-8D9A-BA21A70D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A9086-1FEA-4524-9D24-6EF28BCB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23565-9B85-455D-A862-86EDBC79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CE54C-F86A-4241-90E9-FFEE25C4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03062-8524-4206-A744-417FC35A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BB3D7-6A4C-4303-B066-0A070422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100807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68120" y="1407960"/>
            <a:ext cx="973800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808520" y="1157400"/>
            <a:ext cx="463680" cy="4651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788000" y="1146240"/>
            <a:ext cx="504720" cy="4874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24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81DA1DBD-3AC6-4DA2-BC3C-8DF3696F168E}" type="slidenum">
              <a:rPr b="0" lang="en-US" sz="24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68120" y="587520"/>
            <a:ext cx="973800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68120" y="168120"/>
            <a:ext cx="9738000" cy="331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68120" y="671400"/>
            <a:ext cx="3024360" cy="646776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428840" y="252360"/>
            <a:ext cx="6714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531800" y="355680"/>
            <a:ext cx="463680" cy="4633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512720" y="344520"/>
            <a:ext cx="503280" cy="4874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24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C2868085-C383-462A-84EE-7C3376CBD0BD}" type="slidenum">
              <a:rPr b="0" lang="en-US" sz="24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638172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33360" y="7067520"/>
            <a:ext cx="395136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100807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68120" y="1407960"/>
            <a:ext cx="973800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808520" y="1157400"/>
            <a:ext cx="463680" cy="4651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788000" y="1146240"/>
            <a:ext cx="504720" cy="4874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24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F44897F1-2DF4-42F8-8B25-E0ADE84CFD59}" type="slidenum">
              <a:rPr b="0" lang="en-US" sz="24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728120" y="0"/>
            <a:ext cx="235260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1008072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62000" y="704520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875720" y="171360"/>
            <a:ext cx="0" cy="688500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7540560" y="3225960"/>
            <a:ext cx="6714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7643880" y="3328920"/>
            <a:ext cx="465120" cy="46368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7624800" y="3317760"/>
            <a:ext cx="503280" cy="48600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24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FA396E97-2C18-481A-8319-25F0B4CC0926}" type="slidenum">
              <a:rPr b="0" lang="en-US" sz="24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6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15"/>
          <p:cNvSpPr/>
          <p:nvPr/>
        </p:nvSpPr>
        <p:spPr>
          <a:xfrm>
            <a:off x="0" y="0"/>
            <a:ext cx="100807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17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18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Straight Connector 9"/>
          <p:cNvSpPr/>
          <p:nvPr/>
        </p:nvSpPr>
        <p:spPr>
          <a:xfrm>
            <a:off x="168120" y="1407960"/>
            <a:ext cx="973800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Oval 11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Oval 14"/>
          <p:cNvSpPr/>
          <p:nvPr/>
        </p:nvSpPr>
        <p:spPr>
          <a:xfrm>
            <a:off x="4808520" y="1157400"/>
            <a:ext cx="463680" cy="4651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24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7E597528-846D-42D6-9AE5-1FE849E59EC1}" type="slidenum">
              <a:rPr b="0" lang="en-US" sz="24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9912240" y="324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10080720" cy="27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62000" y="704520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71360" y="2666880"/>
            <a:ext cx="973764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68120" y="16812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703760" y="2332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808520" y="2435400"/>
            <a:ext cx="463680" cy="4633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788000" y="2423880"/>
            <a:ext cx="504720" cy="4870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24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4000BABD-00E1-4052-933C-C608F65D7531}" type="slidenum">
              <a:rPr b="0" lang="en-US" sz="24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100807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68120" y="1407960"/>
            <a:ext cx="973800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808520" y="1157400"/>
            <a:ext cx="463680" cy="4651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808520" y="1131840"/>
            <a:ext cx="503280" cy="48600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24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9066AB70-2D3D-4259-89BB-7E7BA31C6B5B}" type="slidenum">
              <a:rPr b="0" lang="en-US" sz="24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9912240" y="2052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68120" y="2519280"/>
            <a:ext cx="973800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71360" y="157320"/>
            <a:ext cx="9737640" cy="23587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62000" y="704520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68120" y="16812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68120" y="2687760"/>
            <a:ext cx="973800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703760" y="2332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808520" y="2435400"/>
            <a:ext cx="463680" cy="4633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788000" y="2423880"/>
            <a:ext cx="504720" cy="4870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24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670C22A8-C8AA-42A1-9A73-569C0878B87A}" type="slidenum">
              <a:rPr b="0" lang="en-US" sz="24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100807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68120" y="1407960"/>
            <a:ext cx="973800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808520" y="1157400"/>
            <a:ext cx="463680" cy="4651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5030640" y="1736640"/>
            <a:ext cx="9720" cy="531360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384960" y="706608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788000" y="1146240"/>
            <a:ext cx="504720" cy="4874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24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D6F354F1-A019-4B6A-93C5-6E4215548110}" type="slidenum">
              <a:rPr b="0" lang="en-US" sz="24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5040360" y="2425680"/>
            <a:ext cx="0" cy="461664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10080720" cy="159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68120" y="1511280"/>
            <a:ext cx="9738000" cy="10080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60200" y="7045200"/>
            <a:ext cx="9738000" cy="3430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68120" y="1411200"/>
            <a:ext cx="973800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808520" y="1157400"/>
            <a:ext cx="463680" cy="4651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36240" y="7066080"/>
            <a:ext cx="39481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788000" y="1149120"/>
            <a:ext cx="504720" cy="4856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24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ECEFCFDD-DC53-4CAF-91C0-5C5E3A811727}" type="slidenum">
              <a:rPr b="0" lang="en-US" sz="24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100807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68120" y="1407960"/>
            <a:ext cx="973800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808520" y="1157400"/>
            <a:ext cx="463680" cy="4651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788000" y="1141200"/>
            <a:ext cx="504720" cy="4870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24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2E2E52AD-B820-44B5-ABC8-B750261C7E5F}" type="slidenum">
              <a:rPr b="0" lang="en-US" sz="24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1008072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62000" y="704520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68120" y="17460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703760" y="6972120"/>
            <a:ext cx="673200" cy="4856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904E9E20-1A0C-4E67-92BB-41619EDE33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68120" y="168120"/>
            <a:ext cx="9738000" cy="33516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10080720" cy="13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68120" y="671400"/>
            <a:ext cx="3024360" cy="646776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68120" y="16812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68120" y="587520"/>
            <a:ext cx="973800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428840" y="252360"/>
            <a:ext cx="6714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531800" y="355680"/>
            <a:ext cx="463680" cy="4633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512720" y="344520"/>
            <a:ext cx="503280" cy="4874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24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03486032-D5ED-4653-9BAB-3F9186D98A7C}" type="slidenum">
              <a:rPr b="0" lang="en-US" sz="24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33360" y="7067520"/>
            <a:ext cx="37288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68000" y="1951200"/>
            <a:ext cx="9070920" cy="1993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2920" bIns="504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46d7a"/>
                </a:solidFill>
                <a:latin typeface="Arial"/>
                <a:ea typeface="Arial"/>
              </a:rPr>
              <a:t>Scientific Calculator</a:t>
            </a:r>
            <a:br>
              <a:rPr sz="5400"/>
            </a:br>
            <a:r>
              <a:rPr b="1" lang="en-US" sz="6000" spc="-1" strike="noStrike">
                <a:solidFill>
                  <a:srgbClr val="546d7a"/>
                </a:solidFill>
                <a:latin typeface="Arial"/>
                <a:ea typeface="Arial"/>
              </a:rPr>
              <a:t>   </a:t>
            </a:r>
            <a:r>
              <a:rPr b="1" lang="en-US" sz="3600" spc="-1" strike="noStrike">
                <a:solidFill>
                  <a:srgbClr val="546d7a"/>
                </a:solidFill>
                <a:latin typeface="Arial"/>
                <a:ea typeface="Arial"/>
              </a:rPr>
              <a:t>C++ Workshop Projec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Text Box 2"/>
          <p:cNvSpPr/>
          <p:nvPr/>
        </p:nvSpPr>
        <p:spPr>
          <a:xfrm>
            <a:off x="5943600" y="5029200"/>
            <a:ext cx="342900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Membe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2a373d"/>
                </a:solidFill>
                <a:latin typeface="Arial"/>
                <a:ea typeface="SimSun"/>
              </a:rPr>
              <a:t>Mary Aveline L.Germ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2a373d"/>
                </a:solidFill>
                <a:latin typeface="Arial"/>
                <a:ea typeface="SimSun"/>
              </a:rPr>
              <a:t>Jade Mark L. Ifuru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2a373d"/>
                </a:solidFill>
                <a:latin typeface="Arial"/>
                <a:ea typeface="SimSun"/>
              </a:rPr>
              <a:t>Maria Christine C. Ure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2a373d"/>
                </a:solidFill>
                <a:latin typeface="Arial"/>
                <a:ea typeface="SimSun"/>
              </a:rPr>
              <a:t>Ma. Joyce A. Villalob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2a373d"/>
                </a:solidFill>
                <a:latin typeface="Arial"/>
                <a:ea typeface="SimSun"/>
              </a:rPr>
              <a:t>Ma. Jocelia T. Aurel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67720"/>
                <a:tab algn="l" pos="10023480"/>
                <a:tab algn="l" pos="10479240"/>
                <a:tab algn="l" pos="109346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7" name="Picture 5" descr="calculator character"/>
          <p:cNvPicPr/>
          <p:nvPr/>
        </p:nvPicPr>
        <p:blipFill>
          <a:blip r:embed="rId1"/>
          <a:stretch/>
        </p:blipFill>
        <p:spPr>
          <a:xfrm>
            <a:off x="1230480" y="4819680"/>
            <a:ext cx="2361960" cy="1817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33000" y="1682280"/>
            <a:ext cx="93740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  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33000" y="1682280"/>
            <a:ext cx="93740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8" name="Picture 5" descr="calculator character"/>
          <p:cNvPicPr/>
          <p:nvPr/>
        </p:nvPicPr>
        <p:blipFill>
          <a:blip r:embed="rId1"/>
          <a:stretch/>
        </p:blipFill>
        <p:spPr>
          <a:xfrm>
            <a:off x="849240" y="4846680"/>
            <a:ext cx="2286000" cy="1758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b9899"/>
                </a:solidFill>
                <a:latin typeface="Arial"/>
                <a:ea typeface="Arial"/>
              </a:rPr>
              <a:t>SCIENTIFIC CALCULATOR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39840"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0488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46b86"/>
                </a:solidFill>
                <a:latin typeface="Arial"/>
                <a:ea typeface="Arial"/>
              </a:rPr>
              <a:t>I.     General Features</a:t>
            </a:r>
            <a:endParaRPr b="0" lang="en-US" sz="3600" spc="-1" strike="noStrike">
              <a:solidFill>
                <a:srgbClr val="646b86"/>
              </a:solidFill>
              <a:latin typeface="Georgia"/>
            </a:endParaRPr>
          </a:p>
          <a:p>
            <a:pPr lvl="1" marL="70488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46b86"/>
                </a:solidFill>
                <a:latin typeface="Arial"/>
                <a:ea typeface="Arial"/>
              </a:rPr>
              <a:t>II.    GUI</a:t>
            </a:r>
            <a:endParaRPr b="0" lang="en-US" sz="3600" spc="-1" strike="noStrike">
              <a:solidFill>
                <a:srgbClr val="646b86"/>
              </a:solidFill>
              <a:latin typeface="Georgia"/>
            </a:endParaRPr>
          </a:p>
          <a:p>
            <a:pPr lvl="1" marL="70488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46b86"/>
                </a:solidFill>
                <a:latin typeface="Arial"/>
                <a:ea typeface="Arial"/>
              </a:rPr>
              <a:t>III.   Button Sequencing</a:t>
            </a:r>
            <a:endParaRPr b="0" lang="en-US" sz="3600" spc="-1" strike="noStrike">
              <a:solidFill>
                <a:srgbClr val="646b86"/>
              </a:solidFill>
              <a:latin typeface="Georgia"/>
            </a:endParaRPr>
          </a:p>
          <a:p>
            <a:pPr lvl="1" marL="70488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46b86"/>
                </a:solidFill>
                <a:latin typeface="Arial"/>
                <a:ea typeface="Arial"/>
              </a:rPr>
              <a:t>IV.   Sample Case Guide</a:t>
            </a:r>
            <a:endParaRPr b="0" lang="en-US" sz="3600" spc="-1" strike="noStrike">
              <a:solidFill>
                <a:srgbClr val="646b86"/>
              </a:solidFill>
              <a:latin typeface="Georgia"/>
            </a:endParaRPr>
          </a:p>
          <a:p>
            <a:pPr lvl="1" marL="70488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46b86"/>
                </a:solidFill>
                <a:latin typeface="Arial"/>
                <a:ea typeface="Arial"/>
              </a:rPr>
              <a:t>V.    Error Messages</a:t>
            </a:r>
            <a:endParaRPr b="0" lang="en-US" sz="3600" spc="-1" strike="noStrike">
              <a:solidFill>
                <a:srgbClr val="646b86"/>
              </a:solidFill>
              <a:latin typeface="Georgia"/>
            </a:endParaRPr>
          </a:p>
          <a:p>
            <a:pPr lvl="1" marL="70488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46b86"/>
                </a:solidFill>
                <a:latin typeface="Arial"/>
                <a:ea typeface="Arial"/>
              </a:rPr>
              <a:t>VI.  DEMO</a:t>
            </a:r>
            <a:endParaRPr b="0" lang="en-US" sz="3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6d7a"/>
                </a:solidFill>
                <a:latin typeface="Arial"/>
                <a:ea typeface="Arial"/>
              </a:rPr>
              <a:t>General Featur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15720" y="1494000"/>
            <a:ext cx="9070920" cy="566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26960" indent="-322200">
              <a:lnSpc>
                <a:spcPct val="100000"/>
              </a:lnSpc>
              <a:spcBef>
                <a:spcPts val="751"/>
              </a:spcBef>
              <a:buClr>
                <a:srgbClr val="d16349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ase of us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1173240" indent="-498600">
              <a:lnSpc>
                <a:spcPct val="100000"/>
              </a:lnSpc>
              <a:spcBef>
                <a:spcPts val="700"/>
              </a:spcBef>
              <a:buClr>
                <a:srgbClr val="ccb4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646b86"/>
                </a:solidFill>
                <a:latin typeface="Arial"/>
                <a:ea typeface="Arial"/>
              </a:rPr>
              <a:t>Displays the current expression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1173240" indent="-498600">
              <a:lnSpc>
                <a:spcPct val="100000"/>
              </a:lnSpc>
              <a:spcBef>
                <a:spcPts val="700"/>
              </a:spcBef>
              <a:buClr>
                <a:srgbClr val="ccb4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10058400"/>
              </a:tabLst>
            </a:pPr>
            <a:r>
              <a:rPr b="1" lang="en-US" sz="2800" spc="-1" strike="noStrike">
                <a:solidFill>
                  <a:srgbClr val="646b8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646b86"/>
                </a:solidFill>
                <a:latin typeface="Arial"/>
                <a:ea typeface="Arial"/>
              </a:rPr>
              <a:t>Enables the saving of a number to the   memory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1173240" indent="-49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426960" indent="-322200">
              <a:lnSpc>
                <a:spcPct val="100000"/>
              </a:lnSpc>
              <a:spcBef>
                <a:spcPts val="751"/>
              </a:spcBef>
              <a:buClr>
                <a:srgbClr val="d16349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arly error prevention and detection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1173240" indent="-498600">
              <a:lnSpc>
                <a:spcPct val="100000"/>
              </a:lnSpc>
              <a:spcBef>
                <a:spcPts val="700"/>
              </a:spcBef>
              <a:buClr>
                <a:srgbClr val="ccb4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10058400"/>
              </a:tabLst>
            </a:pPr>
            <a:r>
              <a:rPr b="1" lang="en-US" sz="2800" spc="-1" strike="noStrike">
                <a:solidFill>
                  <a:srgbClr val="646b86"/>
                </a:solidFill>
                <a:latin typeface="Arial"/>
                <a:ea typeface="Arial"/>
              </a:rPr>
              <a:t>Disables buttons that are ineligible for a logical mathematical expression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1173240" indent="-498600">
              <a:lnSpc>
                <a:spcPct val="100000"/>
              </a:lnSpc>
              <a:spcBef>
                <a:spcPts val="700"/>
              </a:spcBef>
              <a:buClr>
                <a:srgbClr val="ccb4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10058400"/>
              </a:tabLst>
            </a:pPr>
            <a:r>
              <a:rPr b="1" lang="en-US" sz="2800" spc="-1" strike="noStrike">
                <a:solidFill>
                  <a:srgbClr val="646b86"/>
                </a:solidFill>
                <a:latin typeface="Arial"/>
                <a:ea typeface="Arial"/>
              </a:rPr>
              <a:t>Computes the expression at certain check-point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marL="426960" indent="-322200">
              <a:spcBef>
                <a:spcPts val="700"/>
              </a:spcBef>
              <a:spcAft>
                <a:spcPts val="1137"/>
              </a:spcAft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1173240" indent="-498600">
              <a:spcBef>
                <a:spcPts val="700"/>
              </a:spcBef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10058400"/>
              </a:tabLst>
            </a:pP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6d7a"/>
                </a:solidFill>
                <a:latin typeface="Arial"/>
                <a:ea typeface="Arial"/>
              </a:rPr>
              <a:t>Calculator  GUI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7086600" cy="4921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6d7a"/>
                </a:solidFill>
                <a:latin typeface="Arial"/>
                <a:ea typeface="Arial"/>
              </a:rPr>
              <a:t>Button Sequencing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3352680" y="1814400"/>
            <a:ext cx="3143520" cy="497232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6d7a"/>
                </a:solidFill>
                <a:latin typeface="Arial"/>
                <a:ea typeface="Arial"/>
              </a:rPr>
              <a:t>Sample Case Guide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925560" y="2332080"/>
          <a:ext cx="8070840" cy="4011480"/>
        </p:xfrm>
        <a:graphic>
          <a:graphicData uri="http://schemas.openxmlformats.org/drawingml/2006/table">
            <a:tbl>
              <a:tblPr/>
              <a:tblGrid>
                <a:gridCol w="422280"/>
                <a:gridCol w="966600"/>
                <a:gridCol w="966960"/>
                <a:gridCol w="981000"/>
                <a:gridCol w="568440"/>
                <a:gridCol w="584280"/>
                <a:gridCol w="568080"/>
                <a:gridCol w="852480"/>
                <a:gridCol w="554040"/>
                <a:gridCol w="568440"/>
                <a:gridCol w="1038240"/>
              </a:tblGrid>
              <a:tr h="384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80099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80099"/>
                    </a:solidFill>
                  </a:tcPr>
                </a:tc>
                <a:tc gridSpan="9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80099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80099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P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1-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14-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21-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</a:tr>
              <a:tr h="364680">
                <a:tc rowSpan="9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P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Ch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[Nos.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[Ops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[Func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^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p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D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M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M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M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6d7a"/>
                </a:solidFill>
                <a:latin typeface="Arial"/>
                <a:ea typeface="Arial"/>
              </a:rPr>
              <a:t>Error Messag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502920" y="1767960"/>
            <a:ext cx="9070920" cy="4861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. Negative Function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A. Occurs when computing the square root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[sqrt] of  a negative numbe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B. Occurs when computing the factorial [!] of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     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a negative numbe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. Modulo Rang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6d7a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A. Occurs when the divisor or dividend is a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     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negative numbe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6d7a"/>
                </a:solidFill>
                <a:latin typeface="Arial"/>
                <a:ea typeface="Arial"/>
              </a:rPr>
              <a:t>Error Messag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. Trigonometric Error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A. Occurs when computing the arcsine [asin]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of a number greater than 1 or less than -1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B. Occurs when computing the arccosine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[acos] of a number greater than 1 or les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than -1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4. Division by Zero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A. Occurs when a number is divided by zero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b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546d7a"/>
                </a:solidFill>
                <a:latin typeface="Arial"/>
                <a:ea typeface="Arial"/>
              </a:rPr>
              <a:t>Error Messag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292320" indent="-292320">
              <a:spcBef>
                <a:spcPts val="7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5. Logarithm Error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92320" indent="-29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A. Occurs when computing the logarith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2320" indent="-29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[log] of a non-positive numbe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2320" indent="-29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B. Occurs when computing the natural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2320" indent="-29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logarithm [ln] of a non-positive numbe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2320" indent="-29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2320" indent="-2923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6. Out of Range Error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92320" indent="-29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6d7a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A. Occurs when the final answer is greater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2320" indent="-2923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        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than 10^11.  </a:t>
            </a:r>
            <a:r>
              <a:rPr b="1" lang="en-US" sz="3000" spc="-1" strike="noStrike">
                <a:solidFill>
                  <a:srgbClr val="546d7a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20:35:09Z</dcterms:created>
  <dc:creator>jocel</dc:creator>
  <dc:description/>
  <dc:language>en-US</dc:language>
  <cp:lastModifiedBy>jocel</cp:lastModifiedBy>
  <dcterms:modified xsi:type="dcterms:W3CDTF">2011-10-27T08:38:11Z</dcterms:modified>
  <cp:revision>28</cp:revision>
  <dc:subject/>
  <dc:title>Scientific Calculator</dc:title>
</cp:coreProperties>
</file>